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307-DC51-44BE-B921-15DBB4B2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A59-B593-416A-9415-B48608FD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B21-CC54-4B60-91EB-CC4AD659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F89-7896-411C-BD0F-F0FE7C6C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0290-1A21-4B80-B6EB-763E90B0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DEB8-1157-4EB8-AC75-F920385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1F8A-C4FF-496E-A912-20AA2713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1A72-E9FF-453D-9A4E-6A084AF6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386A-1F7E-49CC-939C-8D283E9A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CDB4-0400-4352-800E-B6170489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1931-C817-4D2E-9DBC-4693412C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2D9-9BB6-4F04-A0FF-B83461BB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1140-9F06-47D2-9079-97C4BDAC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2A62-FF1F-4BFC-BB03-C8D79A2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7B6A-7352-4B67-9483-A2BAA397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101A-56FA-49F5-A7BF-1C408549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BAFA-CD71-4E52-9613-80AD1A3E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9474-081F-4768-BF30-16A5264B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36E7-0DAD-4F00-8AD6-79FF21EA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1389-CDA5-4F2F-89B3-12F925A1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41FB-57E1-4842-A8EB-424FCA2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8D76-C666-4669-88E1-828D07C7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761-D8ED-4F9C-904D-9CE5776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E343-CB08-47E5-B223-6AFF9B95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B751-F03F-4E8E-94C7-6B28D495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C671-3E6F-4738-B7D3-584BE70D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ED7F-DFCA-4855-8B8C-463855A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265A-2D56-454E-BBDA-B7D34FAE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6B18A-CDAE-4D07-80B0-345215FC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38CF0-11A0-4279-B92D-581E1BBF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98F5-1CC3-425F-9C69-0B8E4F1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1381-B37F-4C4A-BC7F-75292A68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16F7-188C-4BD7-AC6E-06145FD7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04A2-F666-4003-A051-692A776C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8C32-B8F1-48A6-8C64-9C3CD980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E9CA-8064-4B38-B6F0-644D99A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4A6D-1FDD-488B-B35B-32721FE2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1D15-9B64-4E67-BC96-6B7A42B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3CCE-6DC3-4E69-8336-3901A6F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1B7C-978A-43CB-BB42-FED6F9D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C31CF-7410-4308-9992-9EDF52CB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3259-44B9-432D-ABB5-968A3F20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FEF5-D8E8-42F9-A348-02034C61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F4A-23AF-49C4-A8EC-45CA6B78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8A5-0ABE-464D-94CC-FF53D975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773-373A-4F33-BBBC-4A1A1027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C98-BCE6-46ED-B395-252124E4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15C-7A83-4049-B145-BCF7CF81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5BDD-5C55-4207-8405-0F094D45E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FB3B-342D-404A-9A06-90F11282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6075-2102-446D-8F38-AE2F8E2BA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FDE5-AB43-4627-8F0B-2CAA8D5C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4824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лод М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D:\Мои документы\Сема\Клод Моне\Клод_Моне.jpg"/>
          <p:cNvPicPr/>
          <p:nvPr/>
        </p:nvPicPr>
        <p:blipFill>
          <a:blip r:embed="rId1"/>
          <a:stretch/>
        </p:blipFill>
        <p:spPr>
          <a:xfrm>
            <a:off x="5688000" y="457200"/>
            <a:ext cx="2925720" cy="8101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1692360" y="2205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40-19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:\Мои документы\Сема\Клод Моне\glrx-1273721921.JPG"/>
          <p:cNvPicPr/>
          <p:nvPr/>
        </p:nvPicPr>
        <p:blipFill>
          <a:blip r:embed="rId1"/>
          <a:stretch/>
        </p:blipFill>
        <p:spPr>
          <a:xfrm>
            <a:off x="1403280" y="260280"/>
            <a:ext cx="6264360" cy="5577120"/>
          </a:xfrm>
          <a:prstGeom prst="rect">
            <a:avLst/>
          </a:prstGeom>
          <a:ln w="19080">
            <a:solidFill>
              <a:srgbClr val="cc6600"/>
            </a:solidFill>
            <a:miter/>
          </a:ln>
        </p:spPr>
      </p:pic>
      <p:sp>
        <p:nvSpPr>
          <p:cNvPr id="170" name="TextBox 4"/>
          <p:cNvSpPr/>
          <p:nvPr/>
        </p:nvSpPr>
        <p:spPr>
          <a:xfrm>
            <a:off x="478800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ндон. Парламент. 190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9:18Z</dcterms:created>
  <dc:creator/>
  <dc:description/>
  <dc:language>en-US</dc:language>
  <cp:lastModifiedBy/>
  <dcterms:modified xsi:type="dcterms:W3CDTF">2016-11-30T18:40:40Z</dcterms:modified>
  <cp:revision>20</cp:revision>
  <dc:subject/>
  <dc:title>Слайд 1</dc:title>
</cp:coreProperties>
</file>